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55B-AED8-425A-82B3-D038EAE2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998-A591-4DEE-92EA-7253BDC8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28BA-2513-4C42-B0E9-95E75CAD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B93-4146-4A77-9FF3-B424C495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A85-01AF-4F70-8EE9-ACEA9C33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861-8A6A-409F-96D2-0A663DDD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499-E3FA-4264-98BB-713A2808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EC7-EAFF-4157-BC51-2AA6EF57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CFB-BDAC-4351-8843-979A1CDA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901-1FAC-4A72-A1F0-19BE8DD2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390-D836-406D-8A19-A80F8D05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DDA-1F1A-4A5C-8520-66679573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7DA8-5AF1-472B-854A-498B367B0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533520"/>
            <a:ext cx="6929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bbe0e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mienne"/>
              </a:rPr>
              <a:t>Identifying Similarities &amp; Difference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bbe0e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mienne"/>
              <a:ea typeface="Amienne"/>
            </a:endParaRPr>
          </a:p>
        </p:txBody>
      </p:sp>
      <p:sp>
        <p:nvSpPr>
          <p:cNvPr id="42" name=""/>
          <p:cNvSpPr/>
          <p:nvPr/>
        </p:nvSpPr>
        <p:spPr>
          <a:xfrm>
            <a:off x="593640" y="2209680"/>
            <a:ext cx="275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e/contr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p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2971800"/>
            <a:ext cx="327636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3352680"/>
            <a:ext cx="275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elp students understand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use knowledge by thinking 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ow items are alike and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4343400"/>
            <a:ext cx="21700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4:34:37Z</dcterms:created>
  <dc:creator>workstation</dc:creator>
  <dc:description/>
  <dc:language>en-US</dc:language>
  <cp:lastModifiedBy>workstation</cp:lastModifiedBy>
  <dcterms:modified xsi:type="dcterms:W3CDTF">2010-08-03T14:37:15Z</dcterms:modified>
  <cp:revision>2</cp:revision>
  <dc:subject/>
  <dc:title>Slide 1</dc:title>
</cp:coreProperties>
</file>